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C81-8B19-4124-8389-0B6469B5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0AB-3DA6-4092-A2AC-0A7A7A0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722-8882-44A0-BACE-3F55A8F8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ADF-99FB-4E3E-85B4-2DD3EE61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3E2-7769-42CB-8121-8B63DDEE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5F3-0413-48E4-91B7-3B2A254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07E-4C3B-4149-88FF-FF84A714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840-00F8-4E0B-9BE6-214C901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B1C-6C3C-4F97-A654-C5D2E42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4E7-0E3C-458C-8FCF-105596F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56C-4431-4A7F-BBBC-0CF053E5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C5E-55C3-46BF-ABA2-194AAF3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9E4E-217D-4E9D-9EE2-53B55ED8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352680" y="5257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1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066680" y="1523880"/>
            <a:ext cx="723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位育实验学校三届一次教代会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80880" y="3048120"/>
            <a:ext cx="8534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华文琥珀"/>
              </a:rPr>
              <a:t>校（园）级干部考核民主测评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深度完美</cp:lastModifiedBy>
  <dcterms:modified xsi:type="dcterms:W3CDTF">2018-12-07T05:58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