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D52-573D-4260-85D5-55163B96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D88-7A25-4E90-8070-F5A52D6C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502-40E1-42C6-914F-DA7E5176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9C3-D52D-4D6E-8576-5B1FD99B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39E-2C97-4BB1-9A81-12AECF77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E23-CB64-45B7-9BD4-EE6B719C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60A-1091-478A-B2ED-68F24AD5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F86-1A7F-47E9-97EC-74E73702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AED-A5A6-4044-8639-58437623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4C9-113A-4D3B-9472-31970336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8013-48ED-4B8B-8F81-8FAE24F3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CAB-38C2-4F11-868E-099DFFAB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0208-8CCF-4698-9B3D-BA04FF328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352680" y="5257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1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066680" y="1523880"/>
            <a:ext cx="723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位育实验学校三届一次教代会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80880" y="3048120"/>
            <a:ext cx="8534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华文琥珀"/>
              </a:rPr>
              <a:t>校（园）级干部考核民主测评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深度完美</cp:lastModifiedBy>
  <dcterms:modified xsi:type="dcterms:W3CDTF">2018-12-07T05:58:0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